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7860A-6491-4DF4-9C3B-92DF06DF3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2D30A-CC82-441D-A43F-71FF6D0F7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368B2-434E-4651-AA07-1BAE7B4FA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072DD-5130-45CF-869E-4617D058F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2AEC5-F6A0-4987-BDBC-A743EDF87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73DE0-04A7-4E82-BC4C-66EFA67FE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4FBF1-8FF6-4254-9127-A34F3AB9A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33E33-299F-45E3-9AFA-098CFD8DC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1E0E7-D789-488B-8B74-B6739C885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7C0D0-E41F-4BA3-B9A3-7CD8BF482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49B15-0255-4A77-A6F7-29A73168E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007A9-273E-4CE7-A327-7E6F8A910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3498-B103-4492-BEC9-60AAD42CE51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hyperlink" Target="mailto:info@saloneoutsourcing.it" TargetMode="External"/><Relationship Id="rId6" Type="http://schemas.openxmlformats.org/officeDocument/2006/relationships/hyperlink" Target="mailto:morando@mediacomm-comunicare.it" TargetMode="External"/><Relationship Id="rId7" Type="http://schemas.openxmlformats.org/officeDocument/2006/relationships/hyperlink" Target="mailto:saloneoutsourcing@posta.gmpr.it" TargetMode="External"/><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98600" y="366840"/>
            <a:ext cx="5859360" cy="1523880"/>
          </a:xfrm>
          <a:prstGeom prst="rect">
            <a:avLst/>
          </a:prstGeom>
          <a:ln w="0">
            <a:noFill/>
          </a:ln>
        </p:spPr>
      </p:pic>
      <p:sp>
        <p:nvSpPr>
          <p:cNvPr id="42" name="PlaceHolder 1"/>
          <p:cNvSpPr>
            <a:spLocks noGrp="1"/>
          </p:cNvSpPr>
          <p:nvPr>
            <p:ph/>
          </p:nvPr>
        </p:nvSpPr>
        <p:spPr>
          <a:xfrm>
            <a:off x="260280" y="2626920"/>
            <a:ext cx="1719360" cy="289080"/>
          </a:xfrm>
          <a:prstGeom prst="rect">
            <a:avLst/>
          </a:prstGeom>
          <a:solidFill>
            <a:srgbClr val="cee7b7">
              <a:alpha val="44000"/>
            </a:srgbClr>
          </a:solidFill>
          <a:ln w="0">
            <a:noFill/>
          </a:ln>
        </p:spPr>
        <p:txBody>
          <a:bodyPr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DITORIALE</a:t>
            </a:r>
            <a:endParaRPr b="0" lang="en-US" sz="1600" spc="-1" strike="noStrike">
              <a:solidFill>
                <a:srgbClr val="000000"/>
              </a:solidFill>
              <a:latin typeface="Arial"/>
            </a:endParaRPr>
          </a:p>
        </p:txBody>
      </p:sp>
      <p:sp>
        <p:nvSpPr>
          <p:cNvPr id="43" name=""/>
          <p:cNvSpPr/>
          <p:nvPr/>
        </p:nvSpPr>
        <p:spPr>
          <a:xfrm>
            <a:off x="260280" y="3059280"/>
            <a:ext cx="4392720" cy="5919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are outsourcing è spesso l’unica leva di crescita non solo per le piccole e medie aziende ma anche per le attività economiche tecnologicamente avanzate. Significa affidarsi all’esterno quando ci si accorge di non avere al proprio interno le forze necessarie per sviluppare al meglio tutte le attività che si vorrebbero sostenere, cercando la qualità a costi minori. Per rispondere a queste esigenze, la Nuova Fiera di Roma si apre al Primo Salone permanente dell'Outsourcing dall’11 al 13 dicembre. Un appuntamento promosso oltre che da Fiera Roma, Confindustria Servizi Innovativi e Tecnologici, Fise, Legacoop,  Confservizi, Compagnia delle Opere con l’obiettivo di creare una community di operatori costantemente in contatto tra loro attraverso forum, incontri istituzionali, workshop e  seminari tecnici. Un Foro permanente in cui interagiranno fornitori,  utilizzatori e manager pubblici e privati, per conoscere e presentare nuove soluzioni e approfondire i problemi. Abbiamo invitato le maggiori imprese fornitrici di tutta la gamma di servizi in outsourcing, dal facility management, al global service, all'ICT, alla logistica, alla manutenzione, alla sicurezza, al business process, ma  anche la Pubblica Amministrazione e i grandi Comuni, come Roma e Milano, le grandi imprese dei principali settori dell'industria, del commercio, delle comunicazioni e dei servizi di pubblica utilità. Nell’ambito della grande nuova e moderna sede del polo fieristico, la Fiera di Roma metterà a disposizione dei partecipanti le proprie strutture per organizzare preventivamente l’agenda degli incontri che intendono realizzare e  per  assistere ai convegni, seminari e workshop programmati.</a:t>
            </a:r>
            <a:endParaRPr b="0" lang="en-US" sz="1100" spc="-1" strike="noStrike">
              <a:solidFill>
                <a:srgbClr val="000000"/>
              </a:solidFill>
              <a:latin typeface="Arial"/>
            </a:endParaRPr>
          </a:p>
        </p:txBody>
      </p:sp>
      <p:sp>
        <p:nvSpPr>
          <p:cNvPr id="44" name=""/>
          <p:cNvSpPr/>
          <p:nvPr/>
        </p:nvSpPr>
        <p:spPr>
          <a:xfrm>
            <a:off x="4797360" y="2556000"/>
            <a:ext cx="1871640" cy="6119640"/>
          </a:xfrm>
          <a:prstGeom prst="rect">
            <a:avLst/>
          </a:prstGeom>
          <a:solidFill>
            <a:srgbClr val="cee7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4797360" y="5580000"/>
            <a:ext cx="1871640" cy="1406520"/>
          </a:xfrm>
          <a:prstGeom prst="rect">
            <a:avLst/>
          </a:prstGeom>
          <a:ln w="0">
            <a:noFill/>
          </a:ln>
        </p:spPr>
      </p:pic>
      <p:sp>
        <p:nvSpPr>
          <p:cNvPr id="46" name=""/>
          <p:cNvSpPr/>
          <p:nvPr/>
        </p:nvSpPr>
        <p:spPr>
          <a:xfrm>
            <a:off x="4797360" y="2627280"/>
            <a:ext cx="187164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ommario</a:t>
            </a:r>
            <a:endParaRPr b="0" lang="en-US" sz="1800" spc="-1" strike="noStrike">
              <a:solidFill>
                <a:srgbClr val="000000"/>
              </a:solidFill>
              <a:latin typeface="Arial"/>
            </a:endParaRPr>
          </a:p>
        </p:txBody>
      </p:sp>
      <p:sp>
        <p:nvSpPr>
          <p:cNvPr id="47" name=""/>
          <p:cNvSpPr/>
          <p:nvPr/>
        </p:nvSpPr>
        <p:spPr>
          <a:xfrm>
            <a:off x="4849920" y="2914560"/>
            <a:ext cx="1674720" cy="20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ditoria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2</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ntervista al Direttore  Commerciale Fiera Roma srl (Inserto Outsourcing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sole 24 ore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19 marzo 2007)</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Mercato dell’Outsourc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
          <p:cNvSpPr/>
          <p:nvPr/>
        </p:nvSpPr>
        <p:spPr>
          <a:xfrm>
            <a:off x="4797360" y="6948360"/>
            <a:ext cx="1871640" cy="1538280"/>
          </a:xfrm>
          <a:prstGeom prst="rect">
            <a:avLst/>
          </a:prstGeom>
          <a:solidFill>
            <a:srgbClr val="ffffff">
              <a:alpha val="98000"/>
            </a:srgbClr>
          </a:solid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esidenza del Consiglio dei Ministr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partimento Affari Regionali 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utonomie Local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Ministero dello Sviluppo Economic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Unioncamere</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Regione Lazi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ovincia di Roma</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Comune di Roma – </a:t>
            </a:r>
            <a:r>
              <a:rPr b="1" lang="en-US" sz="700" spc="-1" strike="noStrike">
                <a:solidFill>
                  <a:srgbClr val="000000"/>
                </a:solidFill>
                <a:latin typeface="Arial"/>
              </a:rPr>
              <a:t>Ass. alle Politich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 la Semplificazione, la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unicazione e le Pari Opportunità</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9" name=""/>
          <p:cNvSpPr/>
          <p:nvPr/>
        </p:nvSpPr>
        <p:spPr>
          <a:xfrm>
            <a:off x="333360" y="1908000"/>
            <a:ext cx="6191280" cy="67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rebuchet MS"/>
              </a:rPr>
              <a:t>Newsletter  Salone dell’Outsourcing</a:t>
            </a:r>
            <a:r>
              <a:rPr b="1" i="1" lang="en-US" sz="1600" spc="-1" strike="noStrike">
                <a:solidFill>
                  <a:srgbClr val="006600"/>
                </a:solidFill>
                <a:latin typeface="Trebuchet MS"/>
              </a:rPr>
              <a:t>                        n. 1</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luglio 2007</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rebuchet MS"/>
              </a:rPr>
              <a:t> </a:t>
            </a:r>
            <a:endParaRPr b="0" lang="en-US" sz="1400" spc="-1" strike="noStrike">
              <a:solidFill>
                <a:srgbClr val="000000"/>
              </a:solidFill>
              <a:latin typeface="Arial"/>
            </a:endParaRPr>
          </a:p>
        </p:txBody>
      </p:sp>
      <p:sp>
        <p:nvSpPr>
          <p:cNvPr id="50" name=""/>
          <p:cNvSpPr/>
          <p:nvPr/>
        </p:nvSpPr>
        <p:spPr>
          <a:xfrm flipH="1">
            <a:off x="259920" y="262728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259920" y="291636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0" name="" descr=""/>
          <p:cNvPicPr/>
          <p:nvPr/>
        </p:nvPicPr>
        <p:blipFill>
          <a:blip r:embed="rId3"/>
          <a:stretch/>
        </p:blipFill>
        <p:spPr>
          <a:xfrm>
            <a:off x="3544920" y="0"/>
            <a:ext cx="3313080" cy="861840"/>
          </a:xfrm>
          <a:prstGeom prst="rect">
            <a:avLst/>
          </a:prstGeom>
          <a:ln w="0">
            <a:noFill/>
          </a:ln>
        </p:spPr>
      </p:pic>
      <p:sp>
        <p:nvSpPr>
          <p:cNvPr id="61" name=""/>
          <p:cNvSpPr/>
          <p:nvPr/>
        </p:nvSpPr>
        <p:spPr>
          <a:xfrm>
            <a:off x="4292640" y="1403280"/>
            <a:ext cx="230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5920" y="971640"/>
            <a:ext cx="6553080" cy="799308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05360" y="1116000"/>
            <a:ext cx="0" cy="381636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pic>
        <p:nvPicPr>
          <p:cNvPr id="65" name="" descr="comunicazione commerciale outsourcing"/>
          <p:cNvPicPr/>
          <p:nvPr/>
        </p:nvPicPr>
        <p:blipFill>
          <a:blip r:embed="rId4"/>
          <a:stretch/>
        </p:blipFill>
        <p:spPr>
          <a:xfrm>
            <a:off x="4076640" y="1258920"/>
            <a:ext cx="2570400" cy="3630600"/>
          </a:xfrm>
          <a:prstGeom prst="rect">
            <a:avLst/>
          </a:prstGeom>
          <a:ln w="0">
            <a:noFill/>
          </a:ln>
        </p:spPr>
      </p:pic>
      <p:sp>
        <p:nvSpPr>
          <p:cNvPr id="66" name=""/>
          <p:cNvSpPr/>
          <p:nvPr/>
        </p:nvSpPr>
        <p:spPr>
          <a:xfrm>
            <a:off x="189000" y="1042920"/>
            <a:ext cx="280836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Outsourcing: la chiave per la competizione globale</a:t>
            </a:r>
            <a:endParaRPr b="0" lang="en-US" sz="1600" spc="-1" strike="noStrike">
              <a:solidFill>
                <a:srgbClr val="000000"/>
              </a:solidFill>
              <a:latin typeface="Arial"/>
            </a:endParaRPr>
          </a:p>
        </p:txBody>
      </p:sp>
      <p:pic>
        <p:nvPicPr>
          <p:cNvPr id="67" name="" descr=""/>
          <p:cNvPicPr/>
          <p:nvPr/>
        </p:nvPicPr>
        <p:blipFill>
          <a:blip r:embed="rId5"/>
          <a:stretch/>
        </p:blipFill>
        <p:spPr>
          <a:xfrm>
            <a:off x="189000" y="1547640"/>
            <a:ext cx="1803240" cy="2710080"/>
          </a:xfrm>
          <a:prstGeom prst="rect">
            <a:avLst/>
          </a:prstGeom>
          <a:ln w="0">
            <a:noFill/>
          </a:ln>
        </p:spPr>
      </p:pic>
      <p:sp>
        <p:nvSpPr>
          <p:cNvPr id="68" name=""/>
          <p:cNvSpPr/>
          <p:nvPr/>
        </p:nvSpPr>
        <p:spPr>
          <a:xfrm>
            <a:off x="0" y="4356000"/>
            <a:ext cx="2060640" cy="490932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L’Outsourcing è ormai una delle chiavi necessarie per aprire le porte della competizione globale. Se ben utilizzato, consente alle aziende di accedere ad economie di scala altrimenti non disponibili, ridurre i costi fissi, migliorare la qualità del servizio rivolgendosi a personale specializzato e conquistare così un vantaggio competitivo in termini di costi ed efficienza. In sostanza, permette di svolgere al meglio le singole attività in cui si articola la vita di un’impresa.</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In Italia, purtroppo, il fenomeno viene spesso visto come una semplice cessione all’esterno di un settore che all’azienda interessa poco perché non rientra nel suo core business. Anzi, a volte viene considerato una sorta di esportazione di manodopera che può condurre alla riduzione del numero complessivo dei posti di lavoro. E non come uno strumento in grado di far crescere la produttività e che può portare a creare nuova occupa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Anche per questo in Italia l’Outsourcing è ancora indietro rispetto ad altri Paesi europei ed extra europei. Così come pochi sono i dati di settore e le ricerche in grado di raccontare questo mercato, di prevederne gli sviluppi, di guidarne l’evolu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Questo ritardo rischia di trasformarsi in un’occasione persa non solo per le nostre aziende ma per tutto il sistema Paes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9" name=""/>
          <p:cNvSpPr/>
          <p:nvPr/>
        </p:nvSpPr>
        <p:spPr>
          <a:xfrm>
            <a:off x="1989000" y="1403280"/>
            <a:ext cx="1871640" cy="7745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E’ vero, anche in Italia sta crescendo il numero delle imprese che, non avendo al loro interno le forze necessarie per sviluppare tutte le attività aziendali o un singolo progetto per il quale sono richieste competenze specifiche, decidono di affidarsi a società esterne. Ma questo processo è in molti casi il risultato scomposto di singole scelte, non l’approdo di una strategia complessiva. E invece questa strategia va pensata e studiata perché l’Outsourcing è diventato un vero e proprio settore autonomo con un suo mercato, nuove figure professionali e un futuro ancora tutto da scoprir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Non è più un sogno, ad esempio, la realizzazione della cosiddetta impresa virtuale, in cui tutte le attività sono esternalizzate e non resta che una struttura centrale in grado di coordinare i vari settori. Uno sviluppo reso possibile dalla tecnologia che consente di affidare in Outsourcing servizi che fino a poco tempo fa erano troppo costosi o complicati da esternalizzare. Novità, prospettive e scenari su cui è opportuno fare il punto per mettere le aziende e il Paese nelle condizioni di sfruttare al meglio ogni possibile vantaggio.</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er questo Fiera Roma ha organizzato il primo Salone dell’Outsourcing 2007, che si terrà nella capitale dall’11 al 13 dicembre. Un momento di incontro per tutte le istituzioni, le realtà locali e le imprese che operano nel settore, un appuntamento che vuole favorire lo sviluppo di un network di capacità e conoscenze anche per quantificare la dimensione del fenomeno attraverso la realizzazione di studi, approfondimenti e seminari tematici. Ma soprattutto un’occasione per mettere in contatto domanda e offerta con incontri mirati che possano far conoscere la cultura dell’Outsourcing e diffonderne le principali best practic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l direttore commerciale di Fiera Roma</a:t>
            </a: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Dottor Antonio Bruzzone</a:t>
            </a:r>
            <a:endParaRPr b="0" lang="en-US" sz="900" spc="-1" strike="noStrike">
              <a:solidFill>
                <a:srgbClr val="000000"/>
              </a:solidFill>
              <a:latin typeface="Arial"/>
            </a:endParaRPr>
          </a:p>
        </p:txBody>
      </p:sp>
      <p:sp>
        <p:nvSpPr>
          <p:cNvPr id="70" name=""/>
          <p:cNvSpPr/>
          <p:nvPr/>
        </p:nvSpPr>
        <p:spPr>
          <a:xfrm flipH="1" flipV="1">
            <a:off x="4005000" y="493092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flipH="1" flipV="1">
            <a:off x="4005000" y="111600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2" name="" descr="sheraton"/>
          <p:cNvPicPr/>
          <p:nvPr/>
        </p:nvPicPr>
        <p:blipFill>
          <a:blip r:embed="rId6"/>
          <a:stretch/>
        </p:blipFill>
        <p:spPr>
          <a:xfrm>
            <a:off x="4076640" y="5148360"/>
            <a:ext cx="2448000" cy="120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 name="" descr=""/>
          <p:cNvPicPr/>
          <p:nvPr/>
        </p:nvPicPr>
        <p:blipFill>
          <a:blip r:embed="rId3"/>
          <a:stretch/>
        </p:blipFill>
        <p:spPr>
          <a:xfrm>
            <a:off x="3544920" y="0"/>
            <a:ext cx="3313080" cy="861840"/>
          </a:xfrm>
          <a:prstGeom prst="rect">
            <a:avLst/>
          </a:prstGeom>
          <a:ln w="0">
            <a:noFill/>
          </a:ln>
        </p:spPr>
      </p:pic>
      <p:sp>
        <p:nvSpPr>
          <p:cNvPr id="82" name=""/>
          <p:cNvSpPr/>
          <p:nvPr/>
        </p:nvSpPr>
        <p:spPr>
          <a:xfrm>
            <a:off x="528480" y="847800"/>
            <a:ext cx="2756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3" name=""/>
          <p:cNvSpPr/>
          <p:nvPr/>
        </p:nvSpPr>
        <p:spPr>
          <a:xfrm>
            <a:off x="3903840" y="3940920"/>
            <a:ext cx="2320560" cy="131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6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 descr="logo FDR"/>
          <p:cNvPicPr/>
          <p:nvPr/>
        </p:nvPicPr>
        <p:blipFill>
          <a:blip r:embed="rId4"/>
          <a:stretch/>
        </p:blipFill>
        <p:spPr>
          <a:xfrm>
            <a:off x="4508640" y="1042920"/>
            <a:ext cx="2112840" cy="1098720"/>
          </a:xfrm>
          <a:prstGeom prst="rect">
            <a:avLst/>
          </a:prstGeom>
          <a:ln w="0">
            <a:noFill/>
          </a:ln>
        </p:spPr>
      </p:pic>
      <p:sp>
        <p:nvSpPr>
          <p:cNvPr id="85" name=""/>
          <p:cNvSpPr/>
          <p:nvPr/>
        </p:nvSpPr>
        <p:spPr>
          <a:xfrm>
            <a:off x="4508640" y="2340000"/>
            <a:ext cx="2162160" cy="6337440"/>
          </a:xfrm>
          <a:prstGeom prst="rect">
            <a:avLst/>
          </a:prstGeom>
          <a:solidFill>
            <a:srgbClr val="aed888">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Fiera Roma Srl</a:t>
            </a:r>
            <a:br>
              <a:rPr sz="900"/>
            </a:br>
            <a:br>
              <a:rPr sz="900"/>
            </a:br>
            <a:r>
              <a:rPr b="1" lang="it-IT" sz="900" spc="-1" strike="noStrike">
                <a:solidFill>
                  <a:srgbClr val="000000"/>
                </a:solidFill>
                <a:latin typeface="Trebuchet MS"/>
              </a:rPr>
              <a:t>Sede legale: </a:t>
            </a:r>
            <a:br>
              <a:rPr sz="900"/>
            </a:br>
            <a:r>
              <a:rPr b="1" lang="it-IT" sz="900" spc="-1" strike="noStrike">
                <a:solidFill>
                  <a:srgbClr val="000000"/>
                </a:solidFill>
                <a:latin typeface="Trebuchet MS"/>
              </a:rPr>
              <a:t>Via Cristoforo Colombo 293 </a:t>
            </a:r>
            <a:br>
              <a:rPr sz="900"/>
            </a:br>
            <a:r>
              <a:rPr b="1" lang="it-IT" sz="900" spc="-1" strike="noStrike">
                <a:solidFill>
                  <a:srgbClr val="000000"/>
                </a:solidFill>
                <a:latin typeface="Trebuchet MS"/>
              </a:rPr>
              <a:t>00147 Roma </a:t>
            </a:r>
            <a:br>
              <a:rPr sz="900"/>
            </a:br>
            <a:br>
              <a:rPr sz="900"/>
            </a:br>
            <a:r>
              <a:rPr b="1" lang="it-IT" sz="900" spc="-1" strike="noStrike">
                <a:solidFill>
                  <a:srgbClr val="000000"/>
                </a:solidFill>
                <a:latin typeface="Trebuchet MS"/>
              </a:rPr>
              <a:t>Sede operativa: </a:t>
            </a:r>
            <a:br>
              <a:rPr sz="900"/>
            </a:br>
            <a:r>
              <a:rPr b="1" lang="it-IT" sz="900" spc="-1" strike="noStrike">
                <a:solidFill>
                  <a:srgbClr val="000000"/>
                </a:solidFill>
                <a:latin typeface="Trebuchet MS"/>
              </a:rPr>
              <a:t>Via A.G. Eiffel </a:t>
            </a:r>
            <a:br>
              <a:rPr sz="900"/>
            </a:br>
            <a:r>
              <a:rPr b="1" lang="it-IT" sz="900" spc="-1" strike="noStrike">
                <a:solidFill>
                  <a:srgbClr val="000000"/>
                </a:solidFill>
                <a:latin typeface="Trebuchet MS"/>
              </a:rPr>
              <a:t>00148 Roma</a:t>
            </a:r>
            <a:br>
              <a:rPr sz="900"/>
            </a:br>
            <a:br>
              <a:rPr sz="900"/>
            </a:br>
            <a:r>
              <a:rPr b="1" lang="it-IT" sz="900" spc="-1" strike="noStrike">
                <a:solidFill>
                  <a:srgbClr val="000000"/>
                </a:solidFill>
                <a:latin typeface="Trebuchet MS"/>
              </a:rPr>
              <a:t>tel. 06 5178204 / 222 </a:t>
            </a:r>
            <a:br>
              <a:rPr sz="900"/>
            </a:br>
            <a:r>
              <a:rPr b="1" lang="it-IT" sz="900" spc="-1" strike="noStrike">
                <a:solidFill>
                  <a:srgbClr val="000000"/>
                </a:solidFill>
                <a:latin typeface="Trebuchet MS"/>
              </a:rPr>
              <a:t>fax 06 5178205</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r>
              <a:rPr b="1" lang="it-IT" sz="900" spc="-1" strike="noStrike">
                <a:solidFill>
                  <a:srgbClr val="000000"/>
                </a:solidFill>
                <a:latin typeface="Trebuchet MS"/>
              </a:rPr>
              <a:t>www.saloneoutsourcing.it</a:t>
            </a:r>
            <a:br>
              <a:rPr sz="900"/>
            </a:br>
            <a:r>
              <a:rPr b="0" lang="it-IT" sz="900" spc="-1" strike="noStrike" u="sng">
                <a:solidFill>
                  <a:srgbClr val="009999"/>
                </a:solidFill>
                <a:uFillTx/>
                <a:latin typeface="Trebuchet MS"/>
                <a:hlinkClick r:id="rId5"/>
              </a:rPr>
              <a:t>info@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Per informazioni commerciali</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CNS - Consorzio Nazionale Servizi</a:t>
            </a:r>
            <a:r>
              <a:rPr b="1" lang="it-IT" sz="900" spc="-1" strike="noStrike">
                <a:solidFill>
                  <a:srgbClr val="000000"/>
                </a:solidFill>
                <a:latin typeface="Trebuchet MS"/>
              </a:rPr>
              <a:t> </a:t>
            </a:r>
            <a:br>
              <a:rPr sz="900"/>
            </a:br>
            <a:r>
              <a:rPr b="1" lang="it-IT" sz="900" spc="-1" strike="noStrike">
                <a:solidFill>
                  <a:srgbClr val="000000"/>
                </a:solidFill>
                <a:latin typeface="Trebuchet MS"/>
              </a:rPr>
              <a:t>Matteo Valente </a:t>
            </a:r>
            <a:br>
              <a:rPr sz="900"/>
            </a:br>
            <a:r>
              <a:rPr b="1" lang="it-IT" sz="900" spc="-1" strike="noStrike">
                <a:solidFill>
                  <a:srgbClr val="000000"/>
                </a:solidFill>
                <a:latin typeface="Trebuchet MS"/>
              </a:rPr>
              <a:t>Tel. 3355433441 </a:t>
            </a:r>
            <a:br>
              <a:rPr sz="900"/>
            </a:br>
            <a:r>
              <a:rPr b="1" lang="it-IT" sz="900" spc="-1" strike="noStrike">
                <a:solidFill>
                  <a:srgbClr val="000000"/>
                </a:solidFill>
                <a:latin typeface="Trebuchet MS"/>
              </a:rPr>
              <a:t>m.valente@cnsroma.it</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Mediacomm - Comunicare</a:t>
            </a:r>
            <a:r>
              <a:rPr b="1" lang="it-IT" sz="900" spc="-1" strike="noStrike">
                <a:solidFill>
                  <a:srgbClr val="000000"/>
                </a:solidFill>
                <a:latin typeface="Trebuchet MS"/>
              </a:rPr>
              <a:t> </a:t>
            </a:r>
            <a:br>
              <a:rPr sz="900"/>
            </a:br>
            <a:r>
              <a:rPr b="1" lang="it-IT" sz="900" spc="-1" strike="noStrike">
                <a:solidFill>
                  <a:srgbClr val="000000"/>
                </a:solidFill>
                <a:latin typeface="Trebuchet MS"/>
              </a:rPr>
              <a:t>Sebastiano Morando </a:t>
            </a:r>
            <a:br>
              <a:rPr sz="900"/>
            </a:br>
            <a:r>
              <a:rPr b="1" lang="it-IT" sz="900" spc="-1" strike="noStrike">
                <a:solidFill>
                  <a:srgbClr val="000000"/>
                </a:solidFill>
                <a:latin typeface="Trebuchet MS"/>
              </a:rPr>
              <a:t>Tel. 06484882 </a:t>
            </a:r>
            <a:br>
              <a:rPr sz="900"/>
            </a:br>
            <a:r>
              <a:rPr b="0" lang="it-IT" sz="800" spc="-1" strike="noStrike" u="sng">
                <a:solidFill>
                  <a:srgbClr val="009999"/>
                </a:solidFill>
                <a:uFillTx/>
                <a:latin typeface="Trebuchet MS"/>
                <a:hlinkClick r:id="rId6"/>
              </a:rPr>
              <a:t>morando@mediacomm-comunicare.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Per aziende associate Confindustria e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Confindustria CSI&amp;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GMPRgroup – Interclub</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br>
              <a:rPr sz="900"/>
            </a:br>
            <a:r>
              <a:rPr b="1" lang="it-IT" sz="900" spc="-1" strike="noStrike">
                <a:solidFill>
                  <a:srgbClr val="000000"/>
                </a:solidFill>
                <a:latin typeface="Trebuchet MS"/>
              </a:rPr>
              <a:t>Marco Mibelli </a:t>
            </a:r>
            <a:br>
              <a:rPr sz="900"/>
            </a:br>
            <a:r>
              <a:rPr b="1" lang="it-IT" sz="900" spc="-1" strike="noStrike">
                <a:solidFill>
                  <a:srgbClr val="000000"/>
                </a:solidFill>
                <a:latin typeface="Trebuchet MS"/>
              </a:rPr>
              <a:t>Tel. 3460097741 </a:t>
            </a:r>
            <a:br>
              <a:rPr sz="900"/>
            </a:br>
            <a:r>
              <a:rPr b="1" lang="it-IT" sz="900" spc="-1" strike="noStrike">
                <a:solidFill>
                  <a:srgbClr val="000000"/>
                </a:solidFill>
                <a:latin typeface="Trebuchet MS"/>
              </a:rPr>
              <a:t>saloneoutsourcing@posta.gmpr.it</a:t>
            </a:r>
            <a:br>
              <a:rPr sz="900"/>
            </a:br>
            <a:br>
              <a:rPr sz="900"/>
            </a:br>
            <a:r>
              <a:rPr b="1" lang="it-IT" sz="900" spc="-1" strike="noStrike">
                <a:solidFill>
                  <a:srgbClr val="000000"/>
                </a:solidFill>
                <a:latin typeface="Trebuchet MS"/>
              </a:rPr>
              <a:t>Giovanni Marangi </a:t>
            </a:r>
            <a:br>
              <a:rPr sz="900"/>
            </a:br>
            <a:r>
              <a:rPr b="1" lang="it-IT" sz="900" spc="-1" strike="noStrike">
                <a:solidFill>
                  <a:srgbClr val="000000"/>
                </a:solidFill>
                <a:latin typeface="Trebuchet MS"/>
              </a:rPr>
              <a:t>Tel. 337782876 </a:t>
            </a:r>
            <a:br>
              <a:rPr sz="900"/>
            </a:br>
            <a:r>
              <a:rPr b="0" lang="it-IT" sz="800" spc="-1" strike="noStrike" u="sng">
                <a:solidFill>
                  <a:srgbClr val="009999"/>
                </a:solidFill>
                <a:uFillTx/>
                <a:latin typeface="Trebuchet MS"/>
                <a:hlinkClick r:id="rId7"/>
              </a:rPr>
              <a:t>saloneoutsourcing@posta.gmpr.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Ufficio Stampa:</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manuela Lancianese</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ufficiostampa@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
          <p:cNvSpPr/>
          <p:nvPr/>
        </p:nvSpPr>
        <p:spPr>
          <a:xfrm>
            <a:off x="115920" y="766800"/>
            <a:ext cx="4321080" cy="8204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Trebuchet MS"/>
              </a:rPr>
              <a:t>IL MERCATO DELL’OUTSOURCING</a:t>
            </a:r>
            <a:endParaRPr b="0" lang="en-US" sz="14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Nel serbatoio dei servizi delocalizzati si trovano le tlc, le aziende che offrono servizi nella logistica e per la grande distribuzione, i media, il manifatturiero, l’hi-tech ma anche le imprese artigiane. Non solo paghe e contributi,assistenza legale, forniture sanitarie o aziende di pulizia. L’affidamento all’esterno di alcuni servizi ad esempio, può essere anche temporaneo, magari pensato per facilitare quella fase di studio e sviluppo di un nuovo servizio che altrimenti sarebbe lenta, tortuosa e forse senza successo. La spinta alla delocalizzazione, all’outsourcing serve anche alle piccole e medie imprese per inserirsi in catene più ampie del valore. Per fare un esempio, L'Italia non è un grande produttore nel settore aeronautico, ma ci sono aziende che costruiscono parti di un aereo e che sono molto produttive perché si sono inserite in una catena del valore più ampia. Sono componenti di una organizzazione della produzione che avviene su base globale. Anche la capacità imprenditoriale di inserirsi in queste catene diventa un elemento fondamentale. </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outsourcing opera ed è adoperato all’interno dei settori più esposti al vento del cambiamento: quelli legati alla new economy ma anche tutto ciò che ha a che fare con l’ossatura tecnologica delle imprese, comparti legati alla tecnologia informatica e gli amministrativi sia delle società attive nel commercio sia di quelle operanti nell’It. Terziarizzare fa parte ormai degli asset aziendali. Una recente ricerca condotta da PricewaterhouseCooper su un campione di 300 imprese a livello mondiale ha evidenziato come l’esternalizzazione non riguardi più soltanto attività collaterali al business aziendale ma coinvolga anche quelle più inerenti al nucleo operativo e produttivo dell’organizzazion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87% degli intervistati ha affermato di essere soddisfatto dei risultati ottenuti grazie all’outsourcing e più del 90% si è dichiarato pronto a rinnovare l’outsourcing malgrado il rapporto con i fornitori non sia risultato pienamente soddisfacente. In estrema sintesi, le aziende europee ed extra europee credono che l’outsourcing sia comunque una formula vincente, a prescindere dall’esperienza contingente. Più del 40% del panel ha risposto che grazie alla terziarizzazione ha potuto incrementato la customer relationship, il 37% ha potuto sviluppare nuovo prodotti o servizi e più del 33% ha spiegato che l’outsourcing è stato importante nel supportare l’espansione aziendal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I ricercatori hanno anche sottolineato come un outsourcing di tipo collaborativo vede coinvolti più partner selezionati, player specializzati, che attraverso joint venture e fusioni, danno origine a quello che potrebbe essere definita l'era del multisourcing.</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Citiamo infine l'ultimo indice quadrimestrale della società di consulenza Tpi relativo al valore totale dei nuovi contratti di outsourcing nell'intervallo dai 40milioni di euro o più, dove avvengono le principali attività di outsourcing. Ebbene questo valore è salito del 78% nel 2006. Gli analisti parlano di una movimentazione di nuovi contratti del valore di 12,3 miliardi di euro, con un aumento del 23% su una media che si attestava a 10 miliardi di euro di nuovi contratti per ogni anno dell’ultimo quinquennio. L’Italia contribuisce rispetto a questo mercato globale solo per l’1%, facile immaginare dunque le potenzialità di crescita. Vi preghiamo di scoprire le altre caratteristiche del Salone, consultando il sito web www.saloneoutsourcing.it, dove troverete anche informazioni sulla partecipazione ai vari salone tematici e ai workshop. </a:t>
            </a:r>
            <a:endParaRPr b="0" lang="en-US" sz="1000" spc="-1" strike="noStrike">
              <a:solidFill>
                <a:srgbClr val="000000"/>
              </a:solidFill>
              <a:latin typeface="Arial"/>
            </a:endParaRPr>
          </a:p>
        </p:txBody>
      </p:sp>
      <p:sp>
        <p:nvSpPr>
          <p:cNvPr id="87" name=""/>
          <p:cNvSpPr/>
          <p:nvPr/>
        </p:nvSpPr>
        <p:spPr>
          <a:xfrm>
            <a:off x="115920" y="755640"/>
            <a:ext cx="6626160" cy="828036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14:28:16Z</dcterms:created>
  <dc:creator>Administrator</dc:creator>
  <dc:description/>
  <dc:language>en-US</dc:language>
  <cp:lastModifiedBy>Marco Catino</cp:lastModifiedBy>
  <dcterms:modified xsi:type="dcterms:W3CDTF">2007-09-12T08:30:33Z</dcterms:modified>
  <cp:revision>22</cp:revision>
  <dc:subject/>
  <dc:title>Newsletter 1/2007 Luglio 2007</dc:title>
</cp:coreProperties>
</file>